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FE0-D976-4A19-BC08-85D205D2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C6F-3C24-4444-AAE2-98C2E67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E36-1706-452B-9E4A-3835BE60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9F3-5BBF-4848-93D4-7F761BF8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D06-B85E-4886-A06F-3C8C5C6E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2CF-0EEF-4CC3-9CC1-6DE3FBB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29E-1BB5-41F3-A69B-3048155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01E-101E-421B-83A2-87EACEF9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7F8-B183-4F7F-B5E7-43CD5DEA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959-10B5-4D3C-B30B-B072DC5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E34-FFD5-4F11-96F0-1CB280A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D96-42A5-4BDA-9262-CDF790D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C7E-AAD5-481E-98CD-0A75D1FDC2D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 fundam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Se, nos termos da Constituição, a participação confere lastro à indissociabilidade entre Direito e Democracia -- cunhando a moeda da Administração com a dupla face da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legalidade 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e da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legitimidade 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--, então, a questão passa a ser por quais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métodos, meios ou formas 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realizamos esse mandamento constitucional e, por consequência,  alcançamos a </a:t>
            </a:r>
            <a:r>
              <a:rPr b="1" lang="pt-BR" sz="3000" spc="-1" strike="noStrike">
                <a:solidFill>
                  <a:srgbClr val="006600"/>
                </a:solidFill>
                <a:latin typeface="Arial"/>
              </a:rPr>
              <a:t>efetividade</a:t>
            </a: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 do Estado Democrático de Dire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aixaDeTexto 4"/>
          <p:cNvSpPr/>
          <p:nvPr/>
        </p:nvSpPr>
        <p:spPr>
          <a:xfrm>
            <a:off x="826920" y="1125360"/>
            <a:ext cx="75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IS SÃO AS ATIVIDADES QUE DEVEM SER DESEMPENHADAS POR UMA OUVIDORIA PÚB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S TERMOS DO SISTEMA DE OUVID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5"/>
          <p:cNvSpPr/>
          <p:nvPr/>
        </p:nvSpPr>
        <p:spPr>
          <a:xfrm>
            <a:off x="971640" y="1989000"/>
            <a:ext cx="748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valiar periodicamente a realização d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mpromissos e padrões de qualidade de atendi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ao público estabelecidos na Carta de Serviços ao Cidadão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tângulo 6"/>
          <p:cNvSpPr/>
          <p:nvPr/>
        </p:nvSpPr>
        <p:spPr>
          <a:xfrm>
            <a:off x="971640" y="34290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relatório periódic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obre as atividades realizadas destinado ao dirigente máximo e ao Conselho da institu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5068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as atividades que </a:t>
            </a:r>
            <a:r>
              <a:rPr b="0" lang="pt-BR" sz="1800" spc="-1" strike="noStrike">
                <a:solidFill>
                  <a:srgbClr val="006600"/>
                </a:solidFill>
                <a:latin typeface="Arial"/>
              </a:rPr>
              <a:t>pod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 desempenh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dos pedidos e dos recursos da Lei nº 12.527/11 (públ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das demandas decorrentes das parcerias da Lei nº 13.019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fio da Ouvid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No plano (ou patamar) formado pela correlação entre gestão, controle e participaçã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Sob a perspectiva dos princípi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Destinado à efetividade dos direitos; 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6600"/>
                </a:solidFill>
                <a:latin typeface="Arial"/>
              </a:rPr>
              <a:t>Baseado em métodos de particip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ço Reservado para Conteúdo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"/>
          <p:cNvSpPr/>
          <p:nvPr/>
        </p:nvSpPr>
        <p:spPr>
          <a:xfrm>
            <a:off x="792000" y="704880"/>
            <a:ext cx="77407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José Eduardo Elias Rom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Ouvidor-Geral da Uni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jose.romao@cgu.gov.b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PRESIDÊNCIA DA REPÚBL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Controladoria-Geral da Uni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Setor de Autarquias S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Quadra 01, Bloco A, 9° andar sala 9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Edifício Darcy Rib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CEP 7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0070-905 - Brasília-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Fone: (+55 61) 2020 7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Legitimidade      Efe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análise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gitim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prevalecer a avaliação do processo e das condições de participação (a possibilidade de apresentar pretensões de val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análise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fetividad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prevalecer a avaliação do resultados e dos impactos produzidos em determinado contexto (a validade da “melhor” pretensão/argumento ou o alcance das expetativas validadas no process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ferente de 3"/>
          <p:cNvSpPr/>
          <p:nvPr/>
        </p:nvSpPr>
        <p:spPr>
          <a:xfrm>
            <a:off x="4356000" y="549360"/>
            <a:ext cx="720720" cy="647640"/>
          </a:xfrm>
          <a:custGeom>
            <a:avLst/>
            <a:gdLst/>
            <a:ahLst/>
            <a:rect l="l" t="t" r="r" b="b"/>
            <a:pathLst>
              <a:path w="720725" h="647700">
                <a:moveTo>
                  <a:pt x="95532" y="133426"/>
                </a:moveTo>
                <a:lnTo>
                  <a:pt x="348613" y="133426"/>
                </a:lnTo>
                <a:lnTo>
                  <a:pt x="397176" y="0"/>
                </a:lnTo>
                <a:lnTo>
                  <a:pt x="540328" y="52103"/>
                </a:lnTo>
                <a:lnTo>
                  <a:pt x="510729" y="133426"/>
                </a:lnTo>
                <a:lnTo>
                  <a:pt x="625193" y="133426"/>
                </a:lnTo>
                <a:lnTo>
                  <a:pt x="625193" y="285765"/>
                </a:lnTo>
                <a:lnTo>
                  <a:pt x="455282" y="285765"/>
                </a:lnTo>
                <a:lnTo>
                  <a:pt x="427559" y="361935"/>
                </a:lnTo>
                <a:lnTo>
                  <a:pt x="625193" y="361935"/>
                </a:lnTo>
                <a:lnTo>
                  <a:pt x="625193" y="514274"/>
                </a:lnTo>
                <a:lnTo>
                  <a:pt x="372112" y="514274"/>
                </a:lnTo>
                <a:lnTo>
                  <a:pt x="323549" y="647700"/>
                </a:lnTo>
                <a:lnTo>
                  <a:pt x="180397" y="595597"/>
                </a:lnTo>
                <a:lnTo>
                  <a:pt x="209996" y="514274"/>
                </a:lnTo>
                <a:lnTo>
                  <a:pt x="95532" y="514274"/>
                </a:lnTo>
                <a:lnTo>
                  <a:pt x="95532" y="361935"/>
                </a:lnTo>
                <a:lnTo>
                  <a:pt x="265443" y="361935"/>
                </a:lnTo>
                <a:lnTo>
                  <a:pt x="293166" y="285765"/>
                </a:lnTo>
                <a:lnTo>
                  <a:pt x="95532" y="285765"/>
                </a:lnTo>
                <a:lnTo>
                  <a:pt x="95532" y="133426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utras palavras, de que forma a Administração abre-se à participação para alcançar sua própria legitimid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uando com base 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ípios normativ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nterpretação conjun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essos transparentes de tomada de decis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visão dos poderes-dev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as institucionalidad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nstitucionalização procedime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 as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vas institucionalida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vidorias públ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ixaDeTexto 4"/>
          <p:cNvSpPr/>
          <p:nvPr/>
        </p:nvSpPr>
        <p:spPr>
          <a:xfrm>
            <a:off x="826920" y="1125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HIST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5"/>
          <p:cNvSpPr/>
          <p:nvPr/>
        </p:nvSpPr>
        <p:spPr>
          <a:xfrm>
            <a:off x="900000" y="1628640"/>
            <a:ext cx="748836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VIDORIAS N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538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Nomeado o primeiro Ouvidor, que era responsável por aplicar a lei da Metrópo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548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Com a criação do Governo Geral do Brasil surge a figura do Ouvidor-Geral, com as funções de Corregedor-Geral da justiça em todo território coloniz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Fonte: </a:t>
            </a:r>
            <a:r>
              <a:rPr b="0" i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Ives Gandra da Silva Martins Filho - http://www.planalto.gov.br/ccivil_03/revista/Rev_05/evol_historica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m 3" descr="http://www.planalto.gov.br/ccivil_03/revista/Rev_05/imagens/evol_h3.gif"/>
          <p:cNvPicPr/>
          <p:nvPr/>
        </p:nvPicPr>
        <p:blipFill>
          <a:blip r:embed="rId1"/>
          <a:stretch/>
        </p:blipFill>
        <p:spPr>
          <a:xfrm>
            <a:off x="3276720" y="3867120"/>
            <a:ext cx="4790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aixaDeTexto 3"/>
          <p:cNvSpPr/>
          <p:nvPr/>
        </p:nvSpPr>
        <p:spPr>
          <a:xfrm>
            <a:off x="826920" y="1125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QUE É UMA OUVIDORIA PÚBLICA FED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ângulo 5"/>
          <p:cNvSpPr/>
          <p:nvPr/>
        </p:nvSpPr>
        <p:spPr>
          <a:xfrm>
            <a:off x="971640" y="1989000"/>
            <a:ext cx="7488000" cy="2151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 ouvidorias públicas são unidades de controle e participação social, responsáveis pelo tratamento das reclamações, solicitações, denúncias, sugestões e elogios relativos às políticas e aos serviços públicos, prestados sob qualquer forma ou regime, com vistas ao aprimoramento da gestão pública (art. 2º, V, Decreto 8.243/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42920" y="501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00"/>
                </a:solidFill>
                <a:latin typeface="Arial"/>
              </a:rPr>
              <a:t>INTERPRETAÇÃO CONSTITUCIONALMENTE ADEQ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3"/>
          <p:cNvSpPr/>
          <p:nvPr/>
        </p:nvSpPr>
        <p:spPr>
          <a:xfrm>
            <a:off x="826920" y="836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OS N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4"/>
          <p:cNvSpPr/>
          <p:nvPr/>
        </p:nvSpPr>
        <p:spPr>
          <a:xfrm>
            <a:off x="900000" y="1341360"/>
            <a:ext cx="7488360" cy="500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Constituição Federal/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rt. 37. A administração pública direta e indireta de qualquer dos Poderes da União, dos Estados, do Distrito Federal e dos Municípios obedecerá aos princípios de legalidade, impessoalidade, moralidade, publicidade e eficiência e, também, ao segui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[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§ 3º A lei disciplinará as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formas de particip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o usuário na administração pública direta e indireta, regulando especial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 - as reclamações relativas à prestação dos serviços públicos em geral, asseguradas a manutenção de serviços de atendimento ao usuário e a avaliação periódica, externa e interna, da qualidade dos serv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rt. 70. A fiscalização contábil, financeira, orçamentária, operacional e patrimonial da União e das entidades da administração direta e indireta, quanto à legalidade,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legitimidade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idade, aplicação das subvenções e renúncia de receitas, será exercida pelo Congresso Nacional, mediante controle externo, e pelo sistema de controle interno de cada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aixaDeTexto 4"/>
          <p:cNvSpPr/>
          <p:nvPr/>
        </p:nvSpPr>
        <p:spPr>
          <a:xfrm>
            <a:off x="826920" y="1125360"/>
            <a:ext cx="75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IS SÃO AS ATIVIDADES QUE DEVEM SER DESEMPENHADAS POR UMA OUVIDORIA PÚBLICA FEDER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S TERMOS DO SISTEMA DE OUVID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ângulo 5"/>
          <p:cNvSpPr/>
          <p:nvPr/>
        </p:nvSpPr>
        <p:spPr>
          <a:xfrm>
            <a:off x="971640" y="19890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Plano de Trabalho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Definição de objetivos, de ações e/ou projetos, de metas e de result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6"/>
          <p:cNvSpPr/>
          <p:nvPr/>
        </p:nvSpPr>
        <p:spPr>
          <a:xfrm>
            <a:off x="971640" y="299736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reclamaçõe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solicitaçõe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denúncia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sugestões</a:t>
            </a:r>
            <a:r>
              <a:rPr b="0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 e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elogios</a:t>
            </a:r>
            <a:r>
              <a:rPr b="0" lang="pt-BR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lacionados às políticas e aos serviços públ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7"/>
          <p:cNvSpPr/>
          <p:nvPr/>
        </p:nvSpPr>
        <p:spPr>
          <a:xfrm>
            <a:off x="971640" y="3860640"/>
            <a:ext cx="7632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a </a:t>
            </a:r>
            <a:r>
              <a:rPr b="1" lang="pt-BR" sz="2400" spc="-1" strike="noStrike">
                <a:solidFill>
                  <a:srgbClr val="00b050"/>
                </a:solidFill>
                <a:latin typeface="Arial"/>
                <a:ea typeface="Arial"/>
              </a:rPr>
              <a:t>mediação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junto às demais unidades e áreas para a efetiva conclusão das manifestações apresent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aixaDeTexto 4"/>
          <p:cNvSpPr/>
          <p:nvPr/>
        </p:nvSpPr>
        <p:spPr>
          <a:xfrm>
            <a:off x="826920" y="1125360"/>
            <a:ext cx="75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IS SÃO AS ATIVIDADES QUE DEVEM SER DESEMPENHADAS POR UMA OUVIDORIA PÚBL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S TERMOS DO SISTEMA DE OUVID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ângulo 5"/>
          <p:cNvSpPr/>
          <p:nvPr/>
        </p:nvSpPr>
        <p:spPr>
          <a:xfrm>
            <a:off x="971640" y="1989000"/>
            <a:ext cx="748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ratar e encaminhar aos órgãos ou setores competentes as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manifestaçõ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es aos dirigentes, servidores, empregados públicos ou atividades e serviços prest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8"/>
          <p:cNvSpPr/>
          <p:nvPr/>
        </p:nvSpPr>
        <p:spPr>
          <a:xfrm>
            <a:off x="971640" y="3357720"/>
            <a:ext cx="74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poiar a </a:t>
            </a:r>
            <a:r>
              <a:rPr b="1" lang="pt-BR" sz="1800" spc="-1" strike="noStrike">
                <a:solidFill>
                  <a:srgbClr val="00b050"/>
                </a:solidFill>
                <a:latin typeface="Arial"/>
                <a:ea typeface="Arial"/>
              </a:rPr>
              <a:t>avaliação das políticas e dos serviços públ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a partir das informações obtidas com a análise das manifestações e, de forma proativa, com a escuta da sociedade por meio de consultas, de pesquisas de satisfação, do levantamento de expectativas e necessidades, entre outros instrumentos de controle e participação soc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12:51:37Z</dcterms:created>
  <dc:creator>Marcio Camargo Cunha Filho</dc:creator>
  <dc:description/>
  <dc:language>en-US</dc:language>
  <cp:lastModifiedBy>Jose Eduardo Elias Romao</cp:lastModifiedBy>
  <dcterms:modified xsi:type="dcterms:W3CDTF">2014-08-26T13:20:13Z</dcterms:modified>
  <cp:revision>41</cp:revision>
  <dc:subject/>
  <dc:title>Apresentação do PowerPoint</dc:title>
</cp:coreProperties>
</file>